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8F87-3A88-468A-9501-0B853C525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otes will comprise of facts, but also have some initial thoughts of mine. Being American, it only seems natural to have an American’s thoughts on the subjec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ly forgot how to make cit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though may seem like a “filler”, is intended to give a background to Captain America’s story so that the viewer of this powerpoint doesn’t feel like their suddenly ambushed by a barrage of info that doesn’t necessarily make sense. Aside from that, this slide is technically not nee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revious no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present my idea’s on how Captain America reflected growing American nationalism. Just setting the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f, as it says in the slide, the Red Skull could not beat Captain America. My thought on this was that the story writer wanted the readers, who were primarily, if not completely American that Germany was in no way better than America. Having been made as somewhat of an anti-Captain America, Red Skull could seem that w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 first bullet says, Baron Zemo must be introduced before The Winter Soldier, otherwise the timing of the slide would be awkward, and questions would inevitably be asked. Baron Zemo has a similar showing of American nationalism to Red Skull, seeing as their both Naz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ter Soldier was the Cap’s enemy for while because of the political assassinations that had immense effects on the cold war. When he was believed to be Bucky, the Cap and Falcon tracked and defeated him, using the Cosmic Cube to restore his memories. But that story is not important enough to actually be on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all the explaining I had for this slide is right there. The proof is in the pudding. What better way to name a hero than after your own country? I’m ignoring the fact the Cap’s movie is being made in England… for no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he final question is meant to be a rhetorical question. Onward, the idea behind this slide is Tony Stark saying there must always be a Captain America. I immediately got a thought of, “Does that reflect American ideas that we must always be here?” I’ll just let the rest of us figure that one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9623A-1DF2-4314-BC7F-2614E1362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AA885-B59E-44B4-86C5-AA6873D35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C6DD0-210B-4516-B37C-31F3A370C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FF939-5663-42E6-B031-819F4C6A8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C11B1-82E8-4AD0-98E3-DAD81A2EF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F7C86-AC19-471C-B2DB-7B5564820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A8312-E921-403C-B061-43DD3448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A3AA0-B213-4484-A424-DC3F319F8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BE1B3-F285-419C-8275-CCD38FA77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9620B-AE08-4590-8FF4-FE4AC38E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D4B2A-BB1E-4F17-9277-673699FD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0745-131D-49FD-8AC7-9714E226A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C7C3-173C-4EAB-8668-2B57A8BD9C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marvel.com/universe/Captain_America" TargetMode="External"/><Relationship Id="rId2" Type="http://schemas.openxmlformats.org/officeDocument/2006/relationships/hyperlink" Target="http://marvel.com/universe/Winter_Soldier" TargetMode="External"/><Relationship Id="rId3" Type="http://schemas.openxmlformats.org/officeDocument/2006/relationships/hyperlink" Target="http://marvel.com/universe/Baron_Zemo_%28Heinrich_Zemo%29" TargetMode="External"/><Relationship Id="rId4" Type="http://schemas.openxmlformats.org/officeDocument/2006/relationships/hyperlink" Target="http://marvel.com/universe/Red_Skull_%28Johann_Shmidt%29" TargetMode="External"/><Relationship Id="rId5" Type="http://schemas.openxmlformats.org/officeDocument/2006/relationships/hyperlink" Target="http://www.toonopedia.com/capamer.htm" TargetMode="External"/><Relationship Id="rId6" Type="http://schemas.openxmlformats.org/officeDocument/2006/relationships/hyperlink" Target="http://www.comicvine.com/red-skull/29-2250/" TargetMode="External"/><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did Captain America reflect Growing American Nationalism?</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Majews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pic>
        <p:nvPicPr>
          <p:cNvPr id="74" name="" descr=""/>
          <p:cNvPicPr/>
          <p:nvPr/>
        </p:nvPicPr>
        <p:blipFill>
          <a:blip r:embed="rId1"/>
          <a:stretch/>
        </p:blipFill>
        <p:spPr>
          <a:xfrm>
            <a:off x="2666880" y="1523880"/>
            <a:ext cx="3895920" cy="477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1"/>
              </a:rPr>
              <a:t>http://marvel.com/universe/Captain_Americ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2"/>
              </a:rPr>
              <a:t>http://marvel.com/universe/Winter_Soldi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3"/>
              </a:rPr>
              <a:t>http://marvel.com/universe/Baron_Zemo_%28Heinrich_Zemo%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4"/>
              </a:rPr>
              <a:t>http://marvel.com/universe/Red_Skull_%28Johann_Shmidt%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5"/>
              </a:rPr>
              <a:t>http://www.toonopedia.com/capamer.ht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6"/>
              </a:rPr>
              <a:t>http://www.comicvine.com/red-skull/29-225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omewhat Brief Orientation…</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 Identity: Steve Ro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ly a scrawny kid looking for a military career, Steve was rejected by the military. However, he was entered into a program that would increase his every attribute with “vita rays”. This turned him into the Captain America we know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st Slide on Orientation…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moving to a military camp, a kid named “Bucky” discovered his identity and wouldn’t tell anyone if he became the Cap’s sideki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bullet resistant shield in the shape of a discus, and a personal sidearm.</a:t>
            </a:r>
            <a:endParaRPr b="0" lang="en-US" sz="3200" spc="-1" strike="noStrike">
              <a:solidFill>
                <a:srgbClr val="000000"/>
              </a:solidFill>
              <a:latin typeface="Arial"/>
            </a:endParaRPr>
          </a:p>
        </p:txBody>
      </p:sp>
      <p:pic>
        <p:nvPicPr>
          <p:cNvPr id="54" name="" descr=""/>
          <p:cNvPicPr/>
          <p:nvPr/>
        </p:nvPicPr>
        <p:blipFill>
          <a:blip r:embed="rId1"/>
          <a:stretch/>
        </p:blipFill>
        <p:spPr>
          <a:xfrm>
            <a:off x="6095880" y="2057400"/>
            <a:ext cx="2813040" cy="300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ptain America Reflected Growing American Nationalism…</a:t>
            </a:r>
            <a:endParaRPr b="0" lang="en-US" sz="4000" spc="-1" strike="noStrike">
              <a:solidFill>
                <a:srgbClr val="000000"/>
              </a:solidFill>
              <a:latin typeface="Arial"/>
            </a:endParaRPr>
          </a:p>
        </p:txBody>
      </p:sp>
      <p:sp>
        <p:nvSpPr>
          <p:cNvPr id="56" name="PlaceHolder 2"/>
          <p:cNvSpPr>
            <a:spLocks noGrp="1"/>
          </p:cNvSpPr>
          <p:nvPr>
            <p:ph/>
          </p:nvPr>
        </p:nvSpPr>
        <p:spPr>
          <a:xfrm>
            <a:off x="53352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Enem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Lasting Image</a:t>
            </a:r>
            <a:endParaRPr b="0" lang="en-US" sz="3200" spc="-1" strike="noStrike">
              <a:solidFill>
                <a:srgbClr val="000000"/>
              </a:solidFill>
              <a:latin typeface="Arial"/>
            </a:endParaRPr>
          </a:p>
        </p:txBody>
      </p:sp>
      <p:sp>
        <p:nvSpPr>
          <p:cNvPr id="57" name=""/>
          <p:cNvSpPr/>
          <p:nvPr/>
        </p:nvSpPr>
        <p:spPr>
          <a:xfrm>
            <a:off x="1752480" y="17524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ell, there’s two rea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Enemies (Part On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d Skul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t through a program similar to the Cap’s, except he was to instill fear into his victi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is advanced training, Red Skull was destined to meet Captain America head on. However, similar to America’s sentiment’s of being the best, Captain America usually wound up on to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reflected growing anti-Nazism in America.</a:t>
            </a:r>
            <a:endParaRPr b="0" lang="en-US" sz="1600" spc="-1" strike="noStrike">
              <a:solidFill>
                <a:srgbClr val="000000"/>
              </a:solidFill>
              <a:latin typeface="Arial"/>
            </a:endParaRPr>
          </a:p>
        </p:txBody>
      </p:sp>
      <p:pic>
        <p:nvPicPr>
          <p:cNvPr id="60" name="" descr=""/>
          <p:cNvPicPr/>
          <p:nvPr/>
        </p:nvPicPr>
        <p:blipFill>
          <a:blip r:embed="rId1"/>
          <a:stretch/>
        </p:blipFill>
        <p:spPr>
          <a:xfrm>
            <a:off x="4952880" y="1371600"/>
            <a:ext cx="347364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Enemies (Part 1-1/2)</a:t>
            </a:r>
            <a:endParaRPr b="0" lang="en-US" sz="44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present the next villain, Baron Zemo must be introduced…</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closing years of WWII, Captain America and Bucky were attempting to thwart the Baron, but were tossed away during the explosion. Both were presumed dea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a similar explanation of nationalism as that of the Red Skull.</a:t>
            </a:r>
            <a:endParaRPr b="0" lang="en-US" sz="1800" spc="-1" strike="noStrike">
              <a:solidFill>
                <a:srgbClr val="000000"/>
              </a:solidFill>
              <a:latin typeface="Arial"/>
            </a:endParaRPr>
          </a:p>
        </p:txBody>
      </p:sp>
      <p:pic>
        <p:nvPicPr>
          <p:cNvPr id="63" name="" descr=""/>
          <p:cNvPicPr/>
          <p:nvPr/>
        </p:nvPicPr>
        <p:blipFill>
          <a:blip r:embed="rId1"/>
          <a:stretch/>
        </p:blipFill>
        <p:spPr>
          <a:xfrm>
            <a:off x="1523880" y="1447920"/>
            <a:ext cx="2535480" cy="44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Enemies (Part Tw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nter Soldier. Previously known as Bucky.</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cky didn’t die from Zemo’s explosion. He suffered amnesia and was taken in by Russian General Vasily Karpov. Because of his unstable state of mind, Winter Soldier can be thought of as American fear of domestic subversion.</a:t>
            </a:r>
            <a:endParaRPr b="0" lang="en-US" sz="1600" spc="-1" strike="noStrike">
              <a:solidFill>
                <a:srgbClr val="000000"/>
              </a:solidFill>
              <a:latin typeface="Arial"/>
            </a:endParaRPr>
          </a:p>
        </p:txBody>
      </p:sp>
      <p:pic>
        <p:nvPicPr>
          <p:cNvPr id="66" name="" descr=""/>
          <p:cNvPicPr/>
          <p:nvPr/>
        </p:nvPicPr>
        <p:blipFill>
          <a:blip r:embed="rId1"/>
          <a:stretch/>
        </p:blipFill>
        <p:spPr>
          <a:xfrm>
            <a:off x="5307120" y="1447920"/>
            <a:ext cx="323352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Lasting Image (Part One)</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ut it bluntly, his namesake and appearance is nationalistic.</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are no Captain Englands or Captain Russias. The thought of Captain America instills a sense that America is confid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essed up in a impressionistic suit of red, white and blue. Very fancy.</a:t>
            </a:r>
            <a:endParaRPr b="0" lang="en-US" sz="1600" spc="-1" strike="noStrike">
              <a:solidFill>
                <a:srgbClr val="000000"/>
              </a:solidFill>
              <a:latin typeface="Arial"/>
            </a:endParaRPr>
          </a:p>
        </p:txBody>
      </p:sp>
      <p:pic>
        <p:nvPicPr>
          <p:cNvPr id="69" name="" descr=""/>
          <p:cNvPicPr/>
          <p:nvPr/>
        </p:nvPicPr>
        <p:blipFill>
          <a:blip r:embed="rId1"/>
          <a:stretch/>
        </p:blipFill>
        <p:spPr>
          <a:xfrm>
            <a:off x="990720" y="1523880"/>
            <a:ext cx="3238560" cy="472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Lasting Image (Part Two)</a:t>
            </a:r>
            <a:endParaRPr b="0" lang="en-US" sz="4400" spc="-1" strike="noStrike">
              <a:solidFill>
                <a:srgbClr val="000000"/>
              </a:solidFill>
              <a:latin typeface="Arial"/>
            </a:endParaRPr>
          </a:p>
        </p:txBody>
      </p:sp>
      <p:sp>
        <p:nvSpPr>
          <p:cNvPr id="71" name="PlaceHolder 2"/>
          <p:cNvSpPr>
            <a:spLocks noGrp="1"/>
          </p:cNvSpPr>
          <p:nvPr>
            <p:ph/>
          </p:nvPr>
        </p:nvSpPr>
        <p:spPr>
          <a:xfrm>
            <a:off x="533520" y="16765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ath of Steve Roger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beit a shocker, Steve Rogers was killed on his way to a courthouse after revealing he was Captain Americ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rst choice to replace him was Bucky. Not wanting to take the mantle of his friend, he reluctantly accepted after Tony Stark said, “There must always be a Captain America”. This can be thought of as there must always be an America. As what some call the “Global Policeman”, what would the world end up like without Americ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 descr=""/>
          <p:cNvPicPr/>
          <p:nvPr/>
        </p:nvPicPr>
        <p:blipFill>
          <a:blip r:embed="rId1"/>
          <a:stretch/>
        </p:blipFill>
        <p:spPr>
          <a:xfrm>
            <a:off x="487692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9:36:52Z</dcterms:created>
  <dc:creator>DaveyMaj</dc:creator>
  <dc:description/>
  <dc:language>en-US</dc:language>
  <cp:lastModifiedBy>DaveyMaj</cp:lastModifiedBy>
  <dcterms:modified xsi:type="dcterms:W3CDTF">2010-06-09T20:59:31Z</dcterms:modified>
  <cp:revision>2</cp:revision>
  <dc:subject/>
  <dc:title>How did Captain America reflect Growing American Nationalism?</dc:title>
</cp:coreProperties>
</file>